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43B8-85F0-45B0-BA00-8459D03A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6C2D-B413-4A0E-AE5A-64F0594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7AD3-2719-40D5-988F-92715ED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53B7-D8FE-4D2B-BE42-0E73C0FE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59DE-806C-4D24-914D-4FD0FBDF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CBF-CB6B-4EDA-AA0C-B80BAD3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F5B4-BEA8-4CDD-A4DC-38069C4F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4EFD-C379-46E2-B532-78804B0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9FDB-1101-4A9B-AC9E-A15BA71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8FC-9ECA-423F-93B6-591F34C5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0BC-A11F-4553-8E23-5E7015C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E2F3-71C0-4FF9-A05C-C2CAD4F4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337F-7323-47B9-9E40-3618CD1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49B-0AA2-4FBE-88DD-6B27006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791A-362F-4DBB-80FF-9339B7A4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EB6F-5DC5-4595-9C62-3BAE9285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102-B4CD-4887-B32A-F5C196F4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B751-2314-4F4B-9CE4-9EC406B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035F-D95A-4E06-AEF3-2A70F072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0FB0-07CA-4EDA-814B-6AC6F05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2F91-FF71-4EFD-9030-83483788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42B6-16C3-4EB3-8DA0-C05138C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C52C-79FC-4C49-A842-716591A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FA72-D8BC-45F3-8247-FE37EC8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2C3-A11C-4563-B76F-557299EB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e5e5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spcBef>
                <a:spcPts val="799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09680" indent="-38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0BF-375A-44CF-9308-74620B97A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. 2 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difference between an atom, element and compou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3 main components of an atom?  What are their charg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bond is found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C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4800600" y="251460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ymb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2" name="Group 25"/>
          <p:cNvGrpSpPr/>
          <p:nvPr/>
        </p:nvGrpSpPr>
        <p:grpSpPr>
          <a:xfrm>
            <a:off x="685800" y="1295280"/>
            <a:ext cx="2666880" cy="3200400"/>
            <a:chOff x="685800" y="1295280"/>
            <a:chExt cx="2666880" cy="3200400"/>
          </a:xfrm>
        </p:grpSpPr>
        <p:sp>
          <p:nvSpPr>
            <p:cNvPr id="133" name="Rectangle 5"/>
            <p:cNvSpPr/>
            <p:nvPr/>
          </p:nvSpPr>
          <p:spPr>
            <a:xfrm>
              <a:off x="685800" y="1295280"/>
              <a:ext cx="2666880" cy="3200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4" name="Group 24"/>
            <p:cNvGrpSpPr/>
            <p:nvPr/>
          </p:nvGrpSpPr>
          <p:grpSpPr>
            <a:xfrm>
              <a:off x="1013760" y="2133360"/>
              <a:ext cx="1729440" cy="1676520"/>
              <a:chOff x="1013760" y="2133360"/>
              <a:chExt cx="1729440" cy="1676520"/>
            </a:xfrm>
          </p:grpSpPr>
          <p:sp>
            <p:nvSpPr>
              <p:cNvPr id="135" name="Text Box 7"/>
              <p:cNvSpPr/>
              <p:nvPr/>
            </p:nvSpPr>
            <p:spPr>
              <a:xfrm>
                <a:off x="1013760" y="2133360"/>
                <a:ext cx="815040" cy="167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Text Box 6"/>
              <p:cNvSpPr/>
              <p:nvPr/>
            </p:nvSpPr>
            <p:spPr>
              <a:xfrm>
                <a:off x="1548720" y="2361960"/>
                <a:ext cx="119448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514"/>
                    </a:solidFill>
                    <a:latin typeface="Arial"/>
                    <a:ea typeface="Arial"/>
                  </a:rPr>
                  <a:t>He</a:t>
                </a:r>
                <a:endParaRPr b="0" lang="en-US" sz="6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cxnSp>
        <p:nvCxnSpPr>
          <p:cNvPr id="137" name="AutoShape 8"/>
          <p:cNvCxnSpPr/>
          <p:nvPr/>
        </p:nvCxnSpPr>
        <p:spPr>
          <a:xfrm flipV="1">
            <a:off x="1523880" y="1752120"/>
            <a:ext cx="2439000" cy="610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38" name="AutoShape 10"/>
          <p:cNvCxnSpPr>
            <a:stCxn id="136" idx="3"/>
            <a:endCxn id="131" idx="1"/>
          </p:cNvCxnSpPr>
          <p:nvPr/>
        </p:nvCxnSpPr>
        <p:spPr>
          <a:xfrm flipV="1">
            <a:off x="2742840" y="2814120"/>
            <a:ext cx="2057760" cy="4392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stealth" w="med"/>
          </a:ln>
        </p:spPr>
      </p:cxnSp>
      <p:cxnSp>
        <p:nvCxnSpPr>
          <p:cNvPr id="139" name="AutoShape 11"/>
          <p:cNvCxnSpPr>
            <a:endCxn id="140" idx="1"/>
          </p:cNvCxnSpPr>
          <p:nvPr/>
        </p:nvCxnSpPr>
        <p:spPr>
          <a:xfrm>
            <a:off x="1600200" y="3429000"/>
            <a:ext cx="236304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sp>
        <p:nvSpPr>
          <p:cNvPr id="140" name="Text Box 12"/>
          <p:cNvSpPr/>
          <p:nvPr/>
        </p:nvSpPr>
        <p:spPr>
          <a:xfrm>
            <a:off x="3962520" y="3581280"/>
            <a:ext cx="492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tomic # (protons or electron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143000"/>
            <a:ext cx="571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ass # (protons + neutron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060800" y="2903400"/>
            <a:ext cx="2760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ymb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685800" y="1295280"/>
            <a:ext cx="2666880" cy="3505320"/>
            <a:chOff x="685800" y="1295280"/>
            <a:chExt cx="2666880" cy="3505320"/>
          </a:xfrm>
        </p:grpSpPr>
        <p:sp>
          <p:nvSpPr>
            <p:cNvPr id="144" name="Rectangle 5"/>
            <p:cNvSpPr/>
            <p:nvPr/>
          </p:nvSpPr>
          <p:spPr>
            <a:xfrm>
              <a:off x="685800" y="1295280"/>
              <a:ext cx="2666880" cy="3200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5" name="Group 24"/>
            <p:cNvGrpSpPr/>
            <p:nvPr/>
          </p:nvGrpSpPr>
          <p:grpSpPr>
            <a:xfrm>
              <a:off x="1292040" y="1490040"/>
              <a:ext cx="1973160" cy="3310560"/>
              <a:chOff x="1292040" y="1490040"/>
              <a:chExt cx="1973160" cy="3310560"/>
            </a:xfrm>
          </p:grpSpPr>
          <p:sp>
            <p:nvSpPr>
              <p:cNvPr id="146" name="Text Box 6"/>
              <p:cNvSpPr/>
              <p:nvPr/>
            </p:nvSpPr>
            <p:spPr>
              <a:xfrm>
                <a:off x="1292040" y="1490040"/>
                <a:ext cx="1194120" cy="33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2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He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514"/>
                    </a:solidFill>
                    <a:latin typeface="Calibri"/>
                  </a:rPr>
                  <a:t>4</a:t>
                </a:r>
                <a:endParaRPr b="0" lang="en-US" sz="5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Text Box 7"/>
              <p:cNvSpPr/>
              <p:nvPr/>
            </p:nvSpPr>
            <p:spPr>
              <a:xfrm>
                <a:off x="2450160" y="2169360"/>
                <a:ext cx="815040" cy="88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514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cxnSp>
        <p:nvCxnSpPr>
          <p:cNvPr id="148" name="AutoShape 8"/>
          <p:cNvCxnSpPr/>
          <p:nvPr/>
        </p:nvCxnSpPr>
        <p:spPr>
          <a:xfrm flipH="1">
            <a:off x="2089080" y="1980720"/>
            <a:ext cx="19530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49" name="AutoShape 9"/>
          <p:cNvCxnSpPr/>
          <p:nvPr/>
        </p:nvCxnSpPr>
        <p:spPr>
          <a:xfrm flipH="1">
            <a:off x="2941200" y="2575080"/>
            <a:ext cx="1029600" cy="21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50" name="AutoShape 10"/>
          <p:cNvCxnSpPr/>
          <p:nvPr/>
        </p:nvCxnSpPr>
        <p:spPr>
          <a:xfrm flipH="1" flipV="1">
            <a:off x="2283840" y="2940840"/>
            <a:ext cx="1678680" cy="25956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cxnSp>
        <p:nvCxnSpPr>
          <p:cNvPr id="151" name="AutoShape 11"/>
          <p:cNvCxnSpPr/>
          <p:nvPr/>
        </p:nvCxnSpPr>
        <p:spPr>
          <a:xfrm flipH="1">
            <a:off x="2129760" y="3841560"/>
            <a:ext cx="18406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triangle" w="med"/>
          </a:ln>
        </p:spPr>
      </p:cxnSp>
      <p:sp>
        <p:nvSpPr>
          <p:cNvPr id="152" name="Text Box 12"/>
          <p:cNvSpPr/>
          <p:nvPr/>
        </p:nvSpPr>
        <p:spPr>
          <a:xfrm>
            <a:off x="4062240" y="1657440"/>
            <a:ext cx="4929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tomic # (never chang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051440" y="2276640"/>
            <a:ext cx="38732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valence 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4059360" y="3511440"/>
            <a:ext cx="2760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ass #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760" y="4694040"/>
            <a:ext cx="3125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utrons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53080" y="4694400"/>
            <a:ext cx="53352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4f9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oto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#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utr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varies, but same # of prot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dioactive isotopes used as tracers (follow molecules, medical diagn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controlled exposure causes ha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65320" y="3854520"/>
            <a:ext cx="6987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hemical 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ongest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val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sharing of 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Pola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covalent bond between atoms that differ in electronega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Nonpola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ared equally; eg.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3" descr="02_13PolarCovalentBonds-L.jpg"/>
          <p:cNvPicPr/>
          <p:nvPr/>
        </p:nvPicPr>
        <p:blipFill>
          <a:blip r:embed="rId1"/>
          <a:stretch/>
        </p:blipFill>
        <p:spPr>
          <a:xfrm>
            <a:off x="5029200" y="2895480"/>
            <a:ext cx="3176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I. Chemical 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ongest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onic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2 ions (+/-) bond (givers/tak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ffected by environment (eg. wat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3" descr="02_15_SodiumChloride-L.jpg"/>
          <p:cNvPicPr/>
          <p:nvPr/>
        </p:nvPicPr>
        <p:blipFill>
          <a:blip r:embed="rId1"/>
          <a:stretch/>
        </p:blipFill>
        <p:spPr>
          <a:xfrm>
            <a:off x="1752480" y="3581280"/>
            <a:ext cx="5943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eaker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H of polar covalent molecule bonds to electronegative atom of other polar covalent molec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" descr="02_16HydrogenBond-L.jpg"/>
          <p:cNvPicPr/>
          <p:nvPr/>
        </p:nvPicPr>
        <p:blipFill>
          <a:blip r:embed="rId1"/>
          <a:stretch/>
        </p:blipFill>
        <p:spPr>
          <a:xfrm>
            <a:off x="2590920" y="3124080"/>
            <a:ext cx="41148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eaker Bond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n der Waals Interact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slight, fleeting attractions  between atoms and molecules clos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akest bo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g. gecko toe hairs + wall surf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3801960" cy="235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02_UN01Gecko-L.jpg"/>
          <p:cNvPicPr/>
          <p:nvPr/>
        </p:nvPicPr>
        <p:blipFill>
          <a:blip r:embed="rId2"/>
          <a:stretch/>
        </p:blipFill>
        <p:spPr>
          <a:xfrm>
            <a:off x="7010280" y="2590920"/>
            <a:ext cx="12956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44792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val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oni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ydrog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942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ll important to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Form cell’s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Quick reactions/ respon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H bonds to other electronegative a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7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Strong bo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Weaker bond (esp. in H</a:t>
                      </a:r>
                      <a:r>
                        <a:rPr b="0" lang="en-US" sz="2400" spc="-1" strike="noStrike" baseline="-25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Even weak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90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Made and broken by chemic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 bonds affect molecule’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SHAPE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ffect molecule’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Garamond"/>
              </a:rPr>
              <a:t>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itle 5"/>
          <p:cNvSpPr/>
          <p:nvPr/>
        </p:nvSpPr>
        <p:spPr>
          <a:xfrm>
            <a:off x="685800" y="42670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30360" indent="-395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imilar shapes = mimic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1087560" indent="-3952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morphine, heroin, opiates mimic endorphin (euphoria, relieve p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1" descr="02_18aMolecularMimic-L.jpg"/>
          <p:cNvPicPr/>
          <p:nvPr/>
        </p:nvPicPr>
        <p:blipFill>
          <a:blip r:embed="rId1"/>
          <a:stretch/>
        </p:blipFill>
        <p:spPr>
          <a:xfrm>
            <a:off x="380880" y="1905120"/>
            <a:ext cx="3695760" cy="2689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02_18bMolecularMimic-L.jpg"/>
          <p:cNvPicPr/>
          <p:nvPr/>
        </p:nvPicPr>
        <p:blipFill>
          <a:blip r:embed="rId2"/>
          <a:stretch/>
        </p:blipFill>
        <p:spPr>
          <a:xfrm>
            <a:off x="4489560" y="2057400"/>
            <a:ext cx="4349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cal Rea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reactions are reversi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3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2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hemical equilibriu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point at which forward and reverse reactions offset one another exact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700"/>
              </a:spcBef>
              <a:buClr>
                <a:srgbClr val="a886e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ctions still occurring, 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 net chan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oncentrations of reactants/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3581280" y="3276720"/>
            <a:ext cx="533880" cy="79560"/>
            <a:chOff x="3581280" y="3276720"/>
            <a:chExt cx="533880" cy="79560"/>
          </a:xfrm>
        </p:grpSpPr>
        <p:cxnSp>
          <p:nvCxnSpPr>
            <p:cNvPr id="180" name="Straight Arrow Connector 4"/>
            <p:cNvCxnSpPr/>
            <p:nvPr/>
          </p:nvCxnSpPr>
          <p:spPr>
            <a:xfrm>
              <a:off x="3581280" y="3276720"/>
              <a:ext cx="534240" cy="2160"/>
            </a:xfrm>
            <a:prstGeom prst="straightConnector1">
              <a:avLst/>
            </a:prstGeom>
            <a:ln w="158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181" name="Straight Arrow Connector 6"/>
            <p:cNvCxnSpPr/>
            <p:nvPr/>
          </p:nvCxnSpPr>
          <p:spPr>
            <a:xfrm>
              <a:off x="3581280" y="3354480"/>
              <a:ext cx="534240" cy="2160"/>
            </a:xfrm>
            <a:prstGeom prst="straightConnector1">
              <a:avLst/>
            </a:prstGeom>
            <a:ln w="15840">
              <a:solidFill>
                <a:srgbClr val="ffffff"/>
              </a:solidFill>
              <a:miter/>
              <a:head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hemical Context of Lif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ts &amp; the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Duroi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Tre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Content Placeholder 5" descr="02_01DevilsGarden-L.jpg"/>
          <p:cNvPicPr/>
          <p:nvPr/>
        </p:nvPicPr>
        <p:blipFill>
          <a:blip r:embed="rId1"/>
          <a:stretch/>
        </p:blipFill>
        <p:spPr>
          <a:xfrm>
            <a:off x="1523880" y="1219320"/>
            <a:ext cx="63518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762120" y="5867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s use formic acid to prevent other plants from growing so that the Duroia trees can serve as their ho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 Must Kn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ree subatomic particles and their signific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ypes of bonds, how they form, and their relative strengt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. Matter vs. Ener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Matt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s mass &amp; takes up 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ffected by gra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ists of elements and comp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nerg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es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tential, kine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ility to d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ver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und, light, h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800600" y="160020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l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re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n’t be broken down by 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dinary</a:t>
            </a:r>
            <a:r>
              <a:rPr b="1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eans to another subs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. hydrogen (H), nitrogen (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ompoun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or more different elements combined in a fixed rat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.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800600" y="160020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33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3"/>
          <a:stretch/>
        </p:blipFill>
        <p:spPr>
          <a:xfrm>
            <a:off x="5105520" y="5029200"/>
            <a:ext cx="160020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7238880" y="5105520"/>
            <a:ext cx="1703520" cy="101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02_03_CompoundProperties-L.jpg"/>
          <p:cNvPicPr/>
          <p:nvPr/>
        </p:nvPicPr>
        <p:blipFill>
          <a:blip r:embed="rId5"/>
          <a:stretch/>
        </p:blipFill>
        <p:spPr>
          <a:xfrm>
            <a:off x="2754360" y="0"/>
            <a:ext cx="303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ments of Lif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ff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5 ele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15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96% : O, C, H,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15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~ 4% : P, S, Ca, K &amp; trace elements (ex: Fe, 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int: Remember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HN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02_T01ElementsInBody-L.jpg"/>
          <p:cNvPicPr/>
          <p:nvPr/>
        </p:nvPicPr>
        <p:blipFill>
          <a:blip r:embed="rId1"/>
          <a:stretch/>
        </p:blipFill>
        <p:spPr>
          <a:xfrm>
            <a:off x="1333440" y="127080"/>
            <a:ext cx="64612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. Atomic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791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Ato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= smallest unit of matter that retains properties of an el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batomic particl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3592440"/>
          <a:ext cx="7772400" cy="3036960"/>
        </p:xfrm>
        <a:graphic>
          <a:graphicData uri="http://schemas.openxmlformats.org/drawingml/2006/table">
            <a:tbl>
              <a:tblPr/>
              <a:tblGrid>
                <a:gridCol w="1828800"/>
                <a:gridCol w="2438280"/>
                <a:gridCol w="1981440"/>
                <a:gridCol w="152388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lton or AM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gligi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" descr="02_05HeliumModels-L.jpg"/>
          <p:cNvPicPr/>
          <p:nvPr/>
        </p:nvPicPr>
        <p:blipFill>
          <a:blip r:embed="rId1"/>
          <a:stretch/>
        </p:blipFill>
        <p:spPr>
          <a:xfrm>
            <a:off x="5791320" y="1447920"/>
            <a:ext cx="3119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3:22:27Z</dcterms:created>
  <dc:creator>Chris Nancy Chou</dc:creator>
  <dc:description/>
  <dc:language>en-US</dc:language>
  <cp:lastModifiedBy>Chris Nancy Chou</cp:lastModifiedBy>
  <dcterms:modified xsi:type="dcterms:W3CDTF">2012-09-04T04:29:30Z</dcterms:modified>
  <cp:revision>39</cp:revision>
  <dc:subject/>
  <dc:title>Warm-Up</dc:title>
</cp:coreProperties>
</file>